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54BD5-D7C3-4A67-B6A5-A9F7CA041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948EC-A2A0-453C-9B7A-FD018BAC5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3CB9E-CD5A-456D-AE2F-42C8D37C3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3B292-F2EF-4480-A26A-AAB754F74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C3ADA-D3A1-451E-9732-54FA92339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77520-BDCE-47D3-9E41-0DA92ACDF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487AD-6054-429F-9915-28CE9ED8D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933DE-E08F-47D7-BF13-F1700E771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05B39-EAA2-4F8A-B02E-34F5D5B70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8A3F6-D87E-4628-A56E-58F9FBA25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34A02-8759-4FC6-A4B3-493852538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7C168-29B8-43A1-B685-40DBB48B0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F55B-C1EB-4693-B8DC-A37D1FFD47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comp_i"/>
          <p:cNvPicPr/>
          <p:nvPr/>
        </p:nvPicPr>
        <p:blipFill>
          <a:blip r:embed="rId1"/>
          <a:stretch/>
        </p:blipFill>
        <p:spPr>
          <a:xfrm>
            <a:off x="5715000" y="1600200"/>
            <a:ext cx="3067200" cy="30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Guest</cp:lastModifiedBy>
  <dcterms:modified xsi:type="dcterms:W3CDTF">2012-06-15T12:34:01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